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121B-96C2-4C47-9887-27F04C4CA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E815-022C-4C5C-931E-CF89C63BE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FB55-8F6B-42B2-9904-3933015EA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4465-774F-419A-9242-2B5517E1E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A0FC-C25E-4B96-B545-D4193D12E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B19F-1853-4D84-BEAB-D636C8DF8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D68A-C4A2-4F31-96B3-D4DE51E92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2E1E-407F-4DA0-B3E4-63DC6C691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D359-1643-47ED-9625-2A94B6936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4010-6758-4245-83CD-E93201950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0FC7-8053-4F29-AE22-C00A05FE6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A6F0-8CC2-4BE6-A12E-06A937105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3E9ED-374D-49C1-92E6-F9F7A0441E3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7440" y="1676520"/>
            <a:ext cx="3908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Measures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of Effect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838080" y="2286000"/>
            <a:ext cx="7543800" cy="25909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838080" y="1219320"/>
            <a:ext cx="7543800" cy="10666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838080" y="4876920"/>
            <a:ext cx="75438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295280" y="1066680"/>
            <a:ext cx="64771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5438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467840" cy="42670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913680" y="5181480"/>
            <a:ext cx="748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igarette smoking became increasingly popular 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merica after World War I, when cigarettes w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Handed out to soldiers as a way to boost morale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4191120" cy="44197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28840" y="5068800"/>
            <a:ext cx="7145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But along with the rise in smoking, came 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disturbing rise in the lung cancer rate and s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early warnings from a handful of doctors abou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possible dangers from smok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724280" y="609480"/>
            <a:ext cx="38862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3915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14400" y="4343400"/>
            <a:ext cx="7238880" cy="19810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7238880" cy="25304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1981080" y="304920"/>
            <a:ext cx="5181840" cy="8380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981080" y="1066680"/>
            <a:ext cx="5181840" cy="825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hort Stud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rican Cancer Society (1954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838080" y="3124080"/>
            <a:ext cx="7239240" cy="24386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838080" y="685800"/>
            <a:ext cx="7239240" cy="25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70866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838080" y="533520"/>
            <a:ext cx="754380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7467480" cy="31208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914400" y="4343400"/>
            <a:ext cx="74674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0-09T17:29:47Z</dcterms:modified>
  <cp:revision>203</cp:revision>
  <dc:subject/>
  <dc:title>Slide 1</dc:title>
</cp:coreProperties>
</file>